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660-B412-4CA9-A80D-19AC0B78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1A5-77BC-4CDA-BFAB-41298D0F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2DC-3FE8-4A53-8290-6AC7404B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C9B-82C9-4748-B67C-E2D23652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9C9B-EC01-495E-B3D8-55DA26C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2218-29E7-41CF-8AFB-ECE132E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4B96-D085-4E8B-BEE3-F91BBE0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951-F352-4FDA-AE39-7DB78EE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0ED6-0C34-4944-8167-DECEB74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517-0333-421C-8664-13260D7F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84AE-7420-489B-974F-BA0468D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51C-EE4B-450D-8B65-A966D700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7C30-4A4C-49CD-A048-1A0ED4C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C5A-55C7-4D09-B2D8-D467ED2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3BFA-071D-4518-9021-DD809B3E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602-E24A-4699-823E-207F6AB6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A8D-AA7B-4EB0-B98A-F4F4B2BF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E3F-1563-48DD-BE57-9A39367F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BBF-CCE1-4B12-A9ED-46721390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E1A-7F54-41DE-A2CA-9104C8DA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19D-95D5-4A58-92E5-F256E751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3A4-EA51-46D6-B3FC-9E3E86E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9F-48A9-4C62-A90D-641572F0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848-80F1-4656-904B-7C1A8E1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EC7-8AA4-4021-84AE-26BEE9996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562-B9CF-4701-9DDB-3B57098F7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02360" y="167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 </a:t>
            </a: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Endangered Walruses  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y: Zach Konieczn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Walruses Not Dying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is Walrus is not dying but they are on the endangered list.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252520"/>
            <a:ext cx="40338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ndangered Walrus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Walruses are drowning because the ice caps are melti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84280"/>
            <a:ext cx="4033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helter Problem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Running out of ice: Walrus calves dying in stampedes</a:t>
            </a:r>
            <a:endParaRPr b="0" lang="en-US" sz="30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600280"/>
            <a:ext cx="4033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nclusion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 think we should save walruses and take them off the endangered list. Thanks for watching my slide show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4:35:42Z</dcterms:created>
  <dc:creator>Durling Clearview</dc:creator>
  <dc:description/>
  <dc:language>en-US</dc:language>
  <cp:lastModifiedBy>Durling Clearview</cp:lastModifiedBy>
  <dcterms:modified xsi:type="dcterms:W3CDTF">2009-12-18T13:26:14Z</dcterms:modified>
  <cp:revision>3</cp:revision>
  <dc:subject/>
  <dc:title> Endangered Walruses  </dc:title>
</cp:coreProperties>
</file>